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4C7E-C563-4119-9A7B-059BFF1D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6B3E-F19D-4725-B7CC-4F765633C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53DD-7EA2-4B7C-937E-2F625C5F0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CFEE-4D38-4436-8513-8F0ECF194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1B52-7930-4F24-8861-3127FEEB5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BD7-67B4-42AF-A75C-834081875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3B81-DEA2-485D-B9CD-FD58EB245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41DA-BA87-42A3-AD49-1D00BAEB1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F257-451F-4C89-B28A-35884D578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F2D4-6242-4A4A-8596-F88EB40F0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0A71-D1BE-4BAC-BB51-97308E194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4599-1E7B-48EF-BCFC-0CD5F4B7A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E30-BF49-4457-A5FC-A32A432B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34D7-2EB5-4E81-AD79-4EF0A264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803-D04C-4703-B8D7-2CAADB5C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65F-53FF-46A5-8F76-2A54C7A5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85BB-D62A-48BF-8128-D1560399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362F-10B6-492C-9E12-7C6C42CE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00AA-1515-43A2-893A-55067ED3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BA9C-A51B-45A1-BCAC-4C546614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D97B-B402-4B2E-968F-DB9022E4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A48B-58F2-4FB3-8A7B-77192D9A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385F-51AF-4C96-B807-E2D9372B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863-46E9-433F-9107-D7052CBE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F41A-8D95-4D01-B20B-9B2E334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A058-5FF7-4A1D-A237-B9EEC41F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B102-D401-45E0-B1A5-CC8B5BDA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2BC0-37D0-4C85-B010-FD9C92A6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1AFA-DD47-47A6-BB3A-8E50B792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9F26-2605-4886-9BF0-65AF993A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7032E-9C20-4111-8138-F34DF537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837E-7610-4BDA-8B8B-C5F4C5AD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959E-F0C5-4C38-8B1A-E8A825DC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8495-C82B-458E-9613-2172DAE7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3F0-F218-4F75-9991-8DB885E4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225B-D3F0-4E7C-86A0-8C5F5EF2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8BAF-CB8F-4F8C-878F-585BB1F1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FD0E-9CD2-4F1F-B41F-83D7D777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391E6-10CD-475A-AA41-90724384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FFB7-4885-470F-8298-AFE9884D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04EA-299A-43B4-8D3F-3AFE03E0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3B13-4171-459A-8D50-60BBE993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1B96C-1404-4CF4-9F73-7EB13B4A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349D4-B33C-46E0-9C30-D16C24D9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B7E8-02E6-4F34-955E-DB2CBFD5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DBF-DD69-4043-AB87-FE37C40F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73D29-7DB3-4974-82DA-DCAFA95D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6180-E5CD-45EF-9FAE-3CE23D35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21758-E1ED-4B89-9429-5048921E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C0528-7F61-4673-8BED-91B2250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40675-44DF-4F75-B2AC-74F25C6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3D9C-3EF5-411C-BBFC-55420458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CDAA-AC87-4C9D-9DA1-2C04CE9D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FCB2D-087B-4AC5-8973-7D87B471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32162-256F-41D5-AF9A-67B4A6B6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D7076-99D2-43C1-BCB7-E47FF3E8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EBB-C47A-4528-BF72-75F0FC6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C55A2-AD9D-468F-96B9-6007AF49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8CA3A-F00C-4E60-B28B-A422B4FA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65B58-4038-42E9-A178-D2EAB8F9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6C2E-AFCE-4402-8D8F-9E077726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AB64C-98A1-4FB1-B93C-DAF7A0D8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89C36-DD87-498B-AD75-CF5F568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4423B-8F19-456E-9A9B-A7B73503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78F22-D7EC-4C5C-A814-4FF1C464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21B38-A1CF-4F4B-88A4-75224BCC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05D8E-36D8-4238-8524-F6FE5C3D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37A-E4D8-4688-8B73-8921904F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EFC3C-B85D-404F-9A99-447F7F44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108-8D6A-43DB-A472-3E5F9987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AED-DF86-4B00-BBA1-6DB4CB1D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99D-56D8-4C93-BA41-A6368192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A849-17D6-4875-AC3A-3CBEA1B16E4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8936-96DC-4A23-BB32-E4EB60DBDF6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713A-C99A-4A0F-9A5E-0882547DDD7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FED8-00C8-4A14-873B-EF8078D2749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0A51-E6BA-4E0B-AA79-A469134325F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4617b"/>
                </a:solidFill>
                <a:latin typeface="Perpetua"/>
              </a:rPr>
              <a:t>Marie Cauli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4617b"/>
                </a:solidFill>
                <a:latin typeface="Perpetua"/>
              </a:rPr>
              <a:t>Professeur des universités, Anthropologue, Université d’Artois, UNF3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Le cancer en contexte africain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perspectives médicales, anthropologiques et éthiques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4617b"/>
                </a:solidFill>
                <a:latin typeface="Franklin Gothic Book"/>
              </a:rPr>
              <a:t>Penser le risque: Le domaine de la prévention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nformation sur les facteurs de risq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acteurs connus (ou non) mais difficulté d’une prévention sereine ou absence. (rapports sociaux de sexe, ou limitation de prise en charge de la santé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risques  cachés ? (alimentation, environnement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ppréhension personnelle du risque (risques négligés ou surestimé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4617b"/>
                </a:solidFill>
                <a:latin typeface="Franklin Gothic Book"/>
              </a:rPr>
              <a:t>Connaissance du patient inscrit dans un contexte face à une maladie grave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On sait le profond désarroi de la population face à ces maladi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Expérience individuelle du cancer, représentations de la maladie grave, et conséquences sur la façon de l’assumer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Relation médecin –patient  dans un contexte de fragilité et d’angoisse et de ressources insuffisan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Du dépistage aux soins palliatif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éclairages du Docteur Namory Kei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Séminaire de chirurgie gynécologique: une contribution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’inscrit dans le cadre du FSP mère/enfa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ormation de formateu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Vers les objectifs de réduction maternelle et infantile dans les fai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ourquoi le cancer féminin, pourquoi  cette séance inaugural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Le cancer en Afrique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Une réalité à l’encontre des idées reçues selon lesquelles la cancer ne serait pas un problème de santé publique en Afriq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pays d’Afrique comme les pays en développement  ne sont pas exclus de ce phénomèn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u contraire, en se surajoutant aux maladies transmissibles qui affectent des millions d’individus  ou chroniques, il contribue à réduire la qualité et l’ espérance de vie et de plus en au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 </a:t>
            </a: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Multiples dimensions déconcertantes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ransition démographique et processus d’urbanisation cumulatif  en contraste avec les zones rurales ou isolées, des modes de vie, une alimentation en mu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ur le plan de la santé, des difficultés spécifiques liés à une croissance insuffisante des richesses par rapport aux besoins (non accès aux soins ou limité, tardif, etc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 cancer : Phénomène encore insuffisamment explor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Aspects sanitaires: résumé 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Besoins sanitaires pléthoriques et très différents à couvr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mè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E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ersonnes âgées, et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Transition épidémiologi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maladies d’origine infectieuse et parasitaire avec des nouvelles formes d’émergenc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Nouvelles pathologies ou supposées comme tel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Cancer et maladies chroniqu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Les cancers des femmes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femmes sont  exposées aux cancer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risques associés aux conditions de vie, au statut, et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ccès aux informations limité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ccès aux systèmes sanitaires diffici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Manque de ressourc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tade avancé des patholog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Face à ces premiers constats et ces situations inédites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Qui  dépassent largement le champ de compétence des médecins ou de la 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Qui demandent des réponses politiques, économiques, sociales  et culturel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4617b"/>
                </a:solidFill>
                <a:latin typeface="Franklin Gothic Book"/>
              </a:rPr>
              <a:t>Rôle du FSP: les formations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Mettre en place les formations médicales appropriées  et travailler aux conditions de leur intervention dans le context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Réduire aussi les inégalités de connaissance à la fois dans le domaine biomédical mais aussi sur la prise en compte de la dimension culturelle et donc du patient atteint d’une maladie grav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aire connaître les travaux en cours et la capitalisation des expériences  sur les facteurs médicaux  et non médicaux de la maladie (site mere-enfant.org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4617b"/>
                </a:solidFill>
                <a:latin typeface="Franklin Gothic Book"/>
              </a:rPr>
              <a:t> </a:t>
            </a:r>
            <a:r>
              <a:rPr b="0" lang="fr-FR" sz="2800" spc="-1" strike="noStrike">
                <a:solidFill>
                  <a:srgbClr val="04617b"/>
                </a:solidFill>
                <a:latin typeface="Franklin Gothic Book"/>
              </a:rPr>
              <a:t>Dans une perspective plus large: Articuler formation/recherche : quelques pistes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Diffuser les  approches pluridisciplinaires: approche biologique et environnement économique et socio-culturel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ensibiliser aux particularités et profils épidémiologiques  qui pourraient mettre en évidence les facteurs génétiques, sociaux, environnementaux tenant  au caractère multifactoriel des cancers et donner lieu à des approches comparatives nord-sud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pproche anthropologique des comportements face à la maladie nécessaire pour travailler à des plans de prévention adéquats (examens et rapport au corp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07:41:06Z</dcterms:created>
  <dc:creator>Marie Cauli</dc:creator>
  <dc:description/>
  <dc:language>en-US</dc:language>
  <cp:lastModifiedBy>Novotel</cp:lastModifiedBy>
  <dcterms:modified xsi:type="dcterms:W3CDTF">2011-06-06T09:11:23Z</dcterms:modified>
  <cp:revision>15</cp:revision>
  <dc:subject/>
  <dc:title>Le cancer en contexte africain perspectives anthropologiques et éthiques</dc:title>
</cp:coreProperties>
</file>